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image8.wmf" ContentType="image/x-wmf"/>
  <Override PartName="/ppt/media/image7.gif" ContentType="image/gif"/>
  <Override PartName="/ppt/media/image5.jpeg" ContentType="image/jpeg"/>
  <Override PartName="/ppt/media/image6.wmf" ContentType="image/x-wmf"/>
  <Override PartName="/ppt/media/image14.wmf" ContentType="image/x-wmf"/>
  <Override PartName="/ppt/media/image9.wmf" ContentType="image/x-wmf"/>
  <Override PartName="/ppt/media/image13.gif" ContentType="image/gif"/>
  <Override PartName="/ppt/media/image15.png" ContentType="image/png"/>
  <Override PartName="/ppt/media/image12.gif" ContentType="image/gif"/>
  <Override PartName="/ppt/media/image1.wmf" ContentType="image/x-wmf"/>
  <Override PartName="/ppt/media/whoosh.wav" ContentType="audio/x-wav"/>
  <Override PartName="/ppt/media/image2.gif" ContentType="image/gif"/>
  <Override PartName="/ppt/media/camera.wav" ContentType="audio/x-wav"/>
  <Override PartName="/ppt/media/image4.jpeg" ContentType="image/jpeg"/>
  <Override PartName="/ppt/media/image10.wmf" ContentType="image/x-wmf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89C7-F329-44D4-94BD-40610686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4B29-36EB-4578-B8BD-7B384B05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CA18-50ED-48E2-BE93-CBD0A1B3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305-D2C4-41E0-8781-72ED98B0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41D4-583F-4D77-8177-BF5E8EE3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126-D695-4BA2-A94E-2413F972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B583-609C-49E6-931D-BE692B46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A05-A867-415F-ADAD-01AB5133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0556-E524-4DD0-9E58-6DEC45A6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38F-4C15-44D6-A658-2D9ACB9E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C5C-D49A-4886-B450-1C1E72E7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11B-DF43-4FFC-96F8-F79F0603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a Vincent, Muhlenberg County Sch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8F9D-8019-4E33-B234-F074A7AC1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file:///tmp/home/.config/libreoffice/4/user/gallery/SN00542A.wav" TargetMode="External"/><Relationship Id="rId3" Type="http://schemas.microsoft.com/office/2007/relationships/media" Target="file:///tmp/home/.config/libreoffice/4/user/gallery/SN00542A.wav" TargetMode="External"/><Relationship Id="rId4" Type="http://schemas.openxmlformats.org/officeDocument/2006/relationships/image" Target="../media/image3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file:///tmp/home/.config/libreoffice/4/user/gallery/type.wav" TargetMode="External"/><Relationship Id="rId4" Type="http://schemas.microsoft.com/office/2007/relationships/media" Target="file:///tmp/home/.config/libreoffice/4/user/gallery/type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file:///tmp/home/.config/libreoffice/4/user/gallery/j0074813.wav" TargetMode="External"/><Relationship Id="rId3" Type="http://schemas.microsoft.com/office/2007/relationships/media" Target="file:///tmp/home/.config/libreoffice/4/user/gallery/j0074813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al Nar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Stories That Have Really Happened to You (At Least You Witnessed 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Documents and Settings\dvincent.MUHLENBERG\Application Data\Microsoft\Media Catalog\Downloaded Clips\cl0\PE01895_.wmf"/>
          <p:cNvPicPr/>
          <p:nvPr/>
        </p:nvPicPr>
        <p:blipFill>
          <a:blip r:embed="rId1"/>
          <a:stretch/>
        </p:blipFill>
        <p:spPr>
          <a:xfrm>
            <a:off x="2387520" y="609480"/>
            <a:ext cx="4368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vent: Think of a Time When You Fel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ck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arra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ppoi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v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C:\Documents and Settings\dvincent.MUHLENBERG\Application Data\Microsoft\Media Catalog\Downloaded Clips\cl7\BD19550_.gif"/>
          <p:cNvPicPr/>
          <p:nvPr/>
        </p:nvPicPr>
        <p:blipFill>
          <a:blip r:embed="rId1"/>
          <a:stretch/>
        </p:blipFill>
        <p:spPr>
          <a:xfrm>
            <a:off x="3608280" y="2732040"/>
            <a:ext cx="4087800" cy="2678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960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568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a Vincent, Muhlenberg County Sch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it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e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ju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Event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3" descr="C:\Documents and Settings\dvincent.MUHLENBERG\Application Data\Microsoft\Media Catalog\Downloaded Clips\cl9e\j0396009.jpg"/>
          <p:cNvPicPr/>
          <p:nvPr/>
        </p:nvPicPr>
        <p:blipFill>
          <a:blip r:embed="rId1"/>
          <a:stretch/>
        </p:blipFill>
        <p:spPr>
          <a:xfrm>
            <a:off x="3657600" y="1828800"/>
            <a:ext cx="2341440" cy="153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C:\Documents and Settings\dvincent.MUHLENBERG\Application Data\Microsoft\Media Catalog\Downloaded Clips\cl7e\j0316857.jpg"/>
          <p:cNvPicPr/>
          <p:nvPr/>
        </p:nvPicPr>
        <p:blipFill>
          <a:blip r:embed="rId2"/>
          <a:stretch/>
        </p:blipFill>
        <p:spPr>
          <a:xfrm>
            <a:off x="4724280" y="4191120"/>
            <a:ext cx="2971800" cy="1676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0010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4173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ight: Life Lesson Lear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 back on the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about what you learned at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from having the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look back and learn from it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your life lesson and tell your story     in chronological order, the order that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e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C:\Documents and Settings\dvincent.MUHLENBERG\Application Data\Microsoft\Media Catalog\Downloaded Clips\cl30\j0122145.wmf"/>
          <p:cNvPicPr/>
          <p:nvPr/>
        </p:nvPicPr>
        <p:blipFill>
          <a:blip r:embed="rId1"/>
          <a:stretch/>
        </p:blipFill>
        <p:spPr>
          <a:xfrm>
            <a:off x="7315200" y="1398600"/>
            <a:ext cx="21286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to Include: (Only the Ones that Made you Feel ____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u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7" descr="C:\Documents and Settings\dvincent.MUHLENBERG\Application Data\Microsoft\Media Catalog\Downloaded Clips\cl71\j0283673.gif"/>
          <p:cNvPicPr/>
          <p:nvPr/>
        </p:nvPicPr>
        <p:blipFill>
          <a:blip r:embed="rId1"/>
          <a:stretch/>
        </p:blipFill>
        <p:spPr>
          <a:xfrm>
            <a:off x="3657600" y="2819520"/>
            <a:ext cx="3463920" cy="2371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960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235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0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to Include: (The Ones that SHOWED you Felt _____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lo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u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C:\Documents and Settings\dvincent.MUHLENBERG\Application Data\Microsoft\Media Catalog\Downloaded Clips\cl0\DD00111_.wmf"/>
          <p:cNvPicPr/>
          <p:nvPr/>
        </p:nvPicPr>
        <p:blipFill>
          <a:blip r:embed="rId1"/>
          <a:stretch/>
        </p:blipFill>
        <p:spPr>
          <a:xfrm>
            <a:off x="685800" y="4419720"/>
            <a:ext cx="2646360" cy="211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dvincent.MUHLENBERG\Application Data\Microsoft\Media Catalog\Downloaded Clips\cl37\j0139947.wmf"/>
          <p:cNvPicPr/>
          <p:nvPr/>
        </p:nvPicPr>
        <p:blipFill>
          <a:blip r:embed="rId2"/>
          <a:stretch/>
        </p:blipFill>
        <p:spPr>
          <a:xfrm>
            <a:off x="3809880" y="2362320"/>
            <a:ext cx="2224080" cy="1861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dvincent.MUHLENBERG\Application Data\Microsoft\Media Catalog\Downloaded Clips\cl0\EN00973_.wmf"/>
          <p:cNvPicPr/>
          <p:nvPr/>
        </p:nvPicPr>
        <p:blipFill>
          <a:blip r:embed="rId3"/>
          <a:stretch/>
        </p:blipFill>
        <p:spPr>
          <a:xfrm>
            <a:off x="6248520" y="4648320"/>
            <a:ext cx="1904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75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75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75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75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ow Motion P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part in you personal narrative that would be put in slow motion if this were a mov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that part down with a snapshot so the audience can fully experience the most important moment(s) in your narr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lot of description, sensory detail, ac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C:\Documents and Settings\dvincent.MUHLENBERG\Application Data\Microsoft\Media Catalog\Downloaded Clips\cl0\AN00701_.wmf"/>
          <p:cNvPicPr/>
          <p:nvPr/>
        </p:nvPicPr>
        <p:blipFill>
          <a:blip r:embed="rId1"/>
          <a:stretch/>
        </p:blipFill>
        <p:spPr>
          <a:xfrm>
            <a:off x="6781680" y="685800"/>
            <a:ext cx="2819520" cy="762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Documents and Settings\dvincent.MUHLENBERG\Application Data\Microsoft\Media Catalog\Downloaded Clips\cl0\AG00441_.gif"/>
          <p:cNvPicPr/>
          <p:nvPr/>
        </p:nvPicPr>
        <p:blipFill>
          <a:blip r:embed="rId2"/>
          <a:stretch/>
        </p:blipFill>
        <p:spPr>
          <a:xfrm>
            <a:off x="380880" y="685800"/>
            <a:ext cx="174960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-Forwarding: Trans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ve out the boring parts that readers would skip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he reader along with transi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she never gets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s can be accomplished with dialogue, thoughts, action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C:\Documents and Settings\dvincent.MUHLENBERG\Application Data\Microsoft\Media Catalog\Downloaded Clips\cl0\AG00399_.gif"/>
          <p:cNvPicPr/>
          <p:nvPr/>
        </p:nvPicPr>
        <p:blipFill>
          <a:blip r:embed="rId1"/>
          <a:stretch/>
        </p:blipFill>
        <p:spPr>
          <a:xfrm>
            <a:off x="7315200" y="2057400"/>
            <a:ext cx="1676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3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3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: Get the readers’ attention and get readers on the right track with Dialogue/Thoughts/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:  Make your audience feel the way you felt by reliving the experience (sensory details, dialogue, thoughts, a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: Make it feel finished and include and check to make sure the reader sees the life les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C:\Documents and Settings\dvincent.MUHLENBERG\Application Data\Microsoft\Media Catalog\Downloaded Clips\cl0\SO01893_.wmf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410080"/>
          </a:xfrm>
          <a:prstGeom prst="rect">
            <a:avLst/>
          </a:prstGeom>
          <a:ln w="0">
            <a:noFill/>
          </a:ln>
        </p:spPr>
      </p:pic>
      <p:pic>
        <p:nvPicPr>
          <p:cNvPr id="76" name="j0071853.wav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682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16:45:37Z</dcterms:created>
  <dc:creator>Michelle CC</dc:creator>
  <dc:description/>
  <dc:language>en-US</dc:language>
  <cp:lastModifiedBy>Michelle CC</cp:lastModifiedBy>
  <dcterms:modified xsi:type="dcterms:W3CDTF">2014-08-12T03:26:34Z</dcterms:modified>
  <cp:revision>7</cp:revision>
  <dc:subject/>
  <dc:title>Personal Narratives</dc:title>
</cp:coreProperties>
</file>